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C6C-2185-47BC-B9BB-CCE205CF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480-3000-4BC5-B069-A23FFCF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413-DEB9-4351-B37A-B735DB47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B07-F81B-4B69-BCCD-2AED583D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A9C-86E9-4D49-B045-AA07EA1B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B31-341D-4E17-9370-320C4BA7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938-795D-4092-A7F6-35D870FE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80EC-582E-4614-A06B-F8F42B9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4918-887C-448C-A5D3-5EAA4A7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F46F-02C9-4BDD-812A-A8B93A1B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4F4-809D-4628-89E6-832C592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751-CE88-41CE-B9BF-48A9D614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7B9-56AE-4079-8DA0-282F72C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C9B9-856C-4756-82E4-E2C9030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CB13-C966-4F95-BA0B-24641658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186-D55C-421D-B8E4-570C2AE7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9DD-D888-4617-8C21-DA17F679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612-8DF0-4236-8A26-45DB7344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656-8482-4429-A7A2-34FFCD7A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A49-4AD6-47B9-8363-43D2F02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C3C-1FDF-4C7F-ADBA-19CD74C9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605-C4F4-4DED-944E-C10BDF6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C0C-88CE-40D5-A74C-EFD5787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C71-5CDB-4446-9E04-DDB12E4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22C5-5DE3-4BD3-9FFA-994061A886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F0A-F49B-4326-B7F5-E24ADC52E0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b7"/>
                </a:solidFill>
                <a:latin typeface="Arial Black"/>
              </a:rPr>
              <a:t>Міжнародні відносини у Давньому  Межиріччі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Особливості природно-кліматичних умов Дворічч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ссир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інік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вил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ерська держ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Фінікі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Розташовувалась на вузькій смузі землі між Середземним морем і Ліванськими горами, вкритими могутніми кедрам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еликих рівнин і повноводних річок тут не було. Фінікійці ловили рибу в морі, садили виноградники й гаї оливкових дерев. Вино, оливкову олію і будівельний ліс вони обмінювали на пшеницю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Фінікія розташовувалася на перехресті морських торговельних шляхів. Сюди виходили суходольні шляхи купців із Дворіччя, а з фінікійських портів кораблі вирушали до Єгипту, Греції та інших далеких земель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ікія не була єдиною державою. Кожне місто мало власного царя. Найбільш багатими містами були Тир, Сидон, Біб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елику роль у житті фінікійців відігравала торгівля. Вони продавали вироби своїх ремісників і перепродували товари, привезені з інших земел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 тих землях, де фінікійці вели торгівлю, вони засновували свої колонії, чимало з яких перетворилися в майбутньому у квітучі мі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ікійці здобули також славу найбільш жорстоких і підступних піратів у всьому Середземному морі. Вони промишляли работоргівлею, вважаючи її найприбутковішою справо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інікійська колонізаці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652760"/>
            <a:ext cx="9144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b7"/>
                </a:solidFill>
                <a:latin typeface="Arial Black"/>
              </a:rPr>
              <a:t>Основні події історії стародавніх фінікійці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на східному узбережжі Середземного моря виникають найбільші фінікійські міста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Сід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початок просування Фінікії до своєї могутно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14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на північному узбережжі Африки (територія сучасного Тунісу) фінікійські купці заснували торговельну колонію Карфаг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29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ассирійський цар Тіглатпаласа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дкорив фінікійські міста і включив їх до складу своєї держа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0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єгипетський фараон Нех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йняв фінікійську команду й карфагенського мореплавця для здійснення морської подорожі навколо Африки. Експедиція тривала три ро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32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ксандр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кедонський завойовує Фінікі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– Рим підкоряє Карфаген унаслідок Третьої Пунічної вій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Вавило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лизьк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94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. до н. е. племена амореїв заснували свою невелику державу у Дворіччі зі столицею в міст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92—175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до н. е. – правління царя Хаммурапі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творюється на могутню державу Дворічч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595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. до н. е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хопили племена хет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518—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155 рр. до н. е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буває під владою племен касси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26—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105 рр. до н. е. – звільнення від влади касситів. Короткочасний розкві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вилона за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арюванн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вуходоносора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732 р. до н. е. – Вавилон опиняється у складі Ассирійської держави. Одночасно з цим боротьбу за Вавилон розпочинають семітські племена халдеї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26 - 529 pp. до н. е. – Доба Халдейського (Нововавилонського) царства. Вавилонія відроджується і стає найбільш могутньою державою на Близькому Сході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26 - 604 рр. до н. е. – правління у Вавилоні халдея Набопаласара. Переміг ассирійців і став царем Вавило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604 - 562 pp. до н. е. за царювання Навуходоносора II Вавилон досяг розквіту. Він переміг Єгипет у війні за право володіння Сирією, захопив Єрусал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539 р. до н. е. Вавилон захопили війська перського царя Кі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331 р. до н. е. Вавилоном оволодів Олександр Македонськ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ововавилонська держа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0496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b7"/>
                </a:solidFill>
                <a:latin typeface="Arial Black"/>
              </a:rPr>
              <a:t>Розквіт Халдейського царства за правління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вуходоносора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I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вуходоносо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авитель Халдейського (Нововавилонського) царства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4 - 56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н. е. Його сорокарічне правління стало періодом великих територіальних надбань, відродження і розквіту Вавилонії. Останній визначний правитель на вавилонському престо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в успішні війни проти Єгипту та його азіатських союзників.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5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авоював територію Сирії й Палестини,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9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дійснив похід до Північної Арав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97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 потім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8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зруйнував повсталий проти його влади Єрусалим, ліквідував іудейське царство, примусово переселив велику кількість мешканців Іудеї д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вилона (так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ваний «Вавилонський полон іудеїв») Після завоювання Іудеї підкорив усю Фінікію. Найдовше чинило опі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вилонянам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селення фінікійського міста Тіра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лизько тринадцяти років 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6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 Навуходоносор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дійснив спустошливий похід до Єгипту, який завершився поразк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правлінн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вуходоносор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авилонія досягла вищої точки свого розвитку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Вавилон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тав головним торговим і ремісничим центром Передньої Аз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наказом правителя на кордоні з Мідійським царством збудували міцні оборонні споруди, унаслідок ч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вилон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еретворився у неприступну фортец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Досягнута економічна могутність стала осн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ю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відродження культури Вавилонії. Було перебудовано Вавилон. Розпочалося будівництво так званої Вавилонської вежі — храму бога Мардука — і висячих садів Семіраміди. Було збільшено і реконструйовано іригаційні споруди, велося будівництво шляхів, палаців і храм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 Black"/>
              </a:rPr>
              <a:t>Географічне положення Персії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3213000"/>
            <a:ext cx="1871640" cy="115272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ерс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781360"/>
            <a:ext cx="71892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36572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350028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500280"/>
            <a:ext cx="43164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1052640"/>
            <a:ext cx="64800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кавказзя і Середня Аз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489640"/>
            <a:ext cx="691200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ерська затока, Аравійське море 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чаток Аравійської зато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492280"/>
            <a:ext cx="3059280" cy="266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збережж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алої Аз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637000"/>
            <a:ext cx="2987640" cy="26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ічка І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рівняно з Давнім Єгиптом міжнародні відносини в Давньому Межиріччі розвивались по-інш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гипет, завдяки природно-географічному положенню, був тривалий час ізольований від зовнішнього світу. Межиріччя являло собою конгломерат міст-держав (понад два десятки – Урук, Кіш, Ур, Лагаш, Ніпур…). Вони постійно конкурували між собою. Час від часу в регіоні виділявся якийсь гегемон, що возвеличувався над інш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ут постійно виникали коаліції, союзи, розвивались динамічні дипломатичні відносини, точились гострі війни і т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чат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. до н. е. Союз перських племен, очолюваний вождем Ахеменом, переселився до кордонів Еламу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область, яку стали називати Персідою. Початок перської династії царів Ахеменід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еред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. до н. е. Перські племена перебували в залежності спочатку від Еламу, потім від Ассирії і, нарешті, від Мідії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8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е. прямий нащадок вождя Ахемена, Кі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чолив союз перських плем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3 - 55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 н. е. повстання перських племен проти мідійського володарювання, очолюване Кіро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вершилося перемогою перс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0 - 53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д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 н. е. – перський цар Кі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початку впродовж трьох років завоював усі країни, що входили до складу Мідійської держави, а потім Лідію і грецькі міста Малої Азії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546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. 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)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ільшу частину Малої Азії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545 - 53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н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.),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авилонію (538 р. до н. е.). Виникнення великої імперії Ахеменідів, що об'єднала більшість країн Стародавнього Сх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Перська імпері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 Black"/>
              </a:rPr>
              <a:t>Ассирі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сновні под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ійсь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ст. до н. е. ассирійці першими в стародавньому світі оснастили свою армію залізною зброєю. Було створено постійну армію, що перебувала на повному державному забезпеченні й нічим не займалася, крім ведення війн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Основу ассирійської армії складала важка і легка піхота. Важка піхота озброювалася списами й мечами, мала захисні панцирі, шоломи й щити. Легка піхота воювала з луками і пращами для кидання камінн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Головну ударну силу ассирійської армії становили бойові колісниці. їх екіпаж складався з лучника й візничого, який був озброєний списом і захищав великим щитом лучник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Ассирійці вперше стали використовувати кінноту, озброєну довгими списами і луками, із яких вони стріляли на повному скак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ffff"/>
                </a:solidFill>
                <a:latin typeface="Arial"/>
              </a:rPr>
              <a:t>В ассирійській армії були спеціальні загони для спорудження доріг, мостів і переправ; розвідники, що з'ясовували кількість ворожого війська і його розташування.  Ассирійці одними з перших стали використовувати спеціальні пристрої для облоги міст і фортець. Вони будували міцні тарани, пересувні башти для облоги, метальні машини, які кидали кам'яні ядра або горщики з палаючою смолою на обложене місто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3371760"/>
            <a:ext cx="6659640" cy="3486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24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Завоювання ассирійських царі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213000"/>
            <a:ext cx="1871640" cy="115272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Ассир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781360"/>
            <a:ext cx="71892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36572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50028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500280"/>
            <a:ext cx="43164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052640"/>
            <a:ext cx="648000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рар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489640"/>
            <a:ext cx="691200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авилонія, Єгип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3059280" cy="266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ілікія, Сирі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Фінікі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зраїль, Іуд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637000"/>
            <a:ext cx="2987640" cy="26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ідія, Ел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ержава Саргона І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ержава Ашшурбаніпа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41600"/>
            <a:ext cx="91440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4:42:13Z</dcterms:created>
  <dc:creator>Andriy</dc:creator>
  <dc:description/>
  <dc:language>en-US</dc:language>
  <cp:lastModifiedBy>Andrey</cp:lastModifiedBy>
  <dcterms:modified xsi:type="dcterms:W3CDTF">2009-09-02T07:53:18Z</dcterms:modified>
  <cp:revision>8</cp:revision>
  <dc:subject/>
  <dc:title>Слайд 1</dc:title>
</cp:coreProperties>
</file>