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FCE-340E-4AB1-A359-DD2C871F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412-1C58-428B-A5A6-03D44B4C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BD6-DD16-4540-AB0B-8E14CD2C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B91-0EFA-4BF3-B218-B21449C1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26AF-7B93-486A-B66E-10F541FA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D0E8-37C9-4090-B34D-09CCFD00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4839-B0DB-4298-8145-7AE21370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0952-A4C8-40B9-9B32-0EDD92DC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8017-F9B6-434F-ABBE-E28D7F8A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A7A7-497E-4FB9-B4C8-13715074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F70D-2A7E-4B9E-8197-F6564885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5BC-8E1E-4230-BC9B-424F990C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0F3C-7E86-4EA9-9F5B-E694334B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C08D-C608-471C-9AAB-318C5E89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C71A-CD2E-4B75-85F1-046094B0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0181-5525-403E-964C-0E304215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F0DC-237B-46F3-B94A-F0A943E3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637-5D94-4628-B092-0F0FED4B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F7B-08BE-4136-A14A-0916E373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E99-61E3-4C06-ABCF-B16AE3C9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31B-94DD-438C-93A0-1F54A73E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914-33CF-4B03-8ED8-1609EC5F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97D-2726-425C-BE24-CA361D54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517-9B9F-4026-BC4D-9B0D765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D6E6-6648-41C0-A5CA-D3518C1069B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C712-2DA8-42F5-AB15-A2EC3F47106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Монгольські завоювання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У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II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ст. степи на північ від Великого Китайського муру до самого Байкалу заселяли численні кочові племена, які займалися скотарством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На поч. ХІІІ ст. ряд місцевих племен і ханств (тайджіути, наймани, кереіти, меркіти) були об'єднані під владою </a:t>
            </a: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Чингісхана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(Темучжина) і утворили єдину монгольську держав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206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р. на </a:t>
            </a:r>
            <a:r>
              <a:rPr b="0" i="1" lang="uk-UA" sz="3200" spc="-1" strike="noStrike">
                <a:solidFill>
                  <a:srgbClr val="2f1311"/>
                </a:solidFill>
                <a:latin typeface="Arial"/>
              </a:rPr>
              <a:t>курултаї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(зібранні) вождів племен, які визнали його владу, Темучжина проголосили Чингіс Каганом («Царем Всесвіту»). Так була заснована Монгольська держа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26272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d47d"/>
                </a:solidFill>
                <a:latin typeface="Arial"/>
              </a:rPr>
              <a:t>Чингісхан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97200" y="404640"/>
            <a:ext cx="6346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Підкоривши собі більшість монголів, Чингісхан здійснив ряд перетворень, що зміцнили його владу, а згодом сприяло успіхам у завойовницьких походах. Зокрема, було запроваджено десяткову систему організації суспільства й армії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Усе доросле населення поділялося на тумени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(10 </a:t>
            </a: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тис. осіб), тисячі, сотні й десятки. Десяток зазвичай збігався з однією монгольською родиною. Такий поділ зберігався як у мирний, так й у воєнний час. На чолі кожного загону (десятку, сотні й т. д.) стояли командири, які призначалися з кращих воїнів. Було чітке підпорядкування нижчого вищому. Якщо хоча б один з десятку тікав із поля бою або зраджував свого хана, то покаранню підлягав увесь десяток, якщо у зраді був винний десяток у цілому – каралася сотня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Військово-територіальна організація монголів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981000"/>
            <a:ext cx="4464000" cy="43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еликий ха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73360"/>
            <a:ext cx="2700360" cy="5745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Ліве крил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1773360"/>
            <a:ext cx="2771640" cy="576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раве крил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1773360"/>
            <a:ext cx="2771640" cy="5745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Центр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852640"/>
            <a:ext cx="190800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f1311"/>
                </a:solidFill>
                <a:latin typeface="Arial"/>
              </a:rPr>
              <a:t>Туме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2852640"/>
            <a:ext cx="187164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f1311"/>
                </a:solidFill>
                <a:latin typeface="Arial"/>
              </a:rPr>
              <a:t>Туме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3789360"/>
            <a:ext cx="190836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Тисяч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724280"/>
            <a:ext cx="190800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Сотн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5661000"/>
            <a:ext cx="1908000" cy="50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Десято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00360" y="3789360"/>
            <a:ext cx="1871640" cy="50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Тисяч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2360" y="4724280"/>
            <a:ext cx="187164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Сотн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40360" y="5661000"/>
            <a:ext cx="187164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Десято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41300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187280" y="1413000"/>
            <a:ext cx="338472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1413000"/>
            <a:ext cx="331308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971280" y="2349360"/>
            <a:ext cx="431640" cy="503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2349360"/>
            <a:ext cx="1656000" cy="503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042560" y="3357720"/>
            <a:ext cx="57636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19280" y="3357720"/>
            <a:ext cx="165744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476360" y="4292640"/>
            <a:ext cx="50328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4292640"/>
            <a:ext cx="230508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5229360"/>
            <a:ext cx="230508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195280" y="5229360"/>
            <a:ext cx="21564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2f1311"/>
                </a:solidFill>
                <a:latin typeface="Arial"/>
              </a:rPr>
              <a:t>Чингісхан проявив себе не тільки великим завойовником, але і блискучим політиком і адміністратором. Він зумів організувати твердий порядок управління завойованими країнами. Багато в чому цьому сприяло створення унікальної для свого часу системи комунікацій – державної дорожньо-поштової служби. 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2f1311"/>
                </a:solidFill>
                <a:latin typeface="Arial"/>
              </a:rPr>
              <a:t>Ці перетворення дали змогу Чингісхану створити могутнє військо. Завдяки цьому порівняно нечисленний народ (близько 100 тис. воїнів: у кочовиків воїном був кожен четвертий або третій) зумів підкорити своїй владі півсвіту.</a:t>
            </a:r>
            <a:r>
              <a:rPr b="0" lang="ru-RU" sz="25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2f1311"/>
                </a:solidFill>
                <a:latin typeface="Arial"/>
              </a:rPr>
              <a:t>Як полководець Чингісхан відрізнявся пильною увагою до розвідки, прагненням до раптовості нападу, умілим маневруванням крупними масами кінноти. Його улюбленою тактикою було влаштування засідок з використанням спеціальних загонів для заманювання ворога. У битвах Чингісхан завжди намагався розчленувати сили супротивника.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d47d"/>
                </a:solidFill>
                <a:latin typeface="Arial"/>
              </a:rPr>
              <a:t>Монгольські завоювання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704880"/>
            <a:ext cx="9144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d47d"/>
                </a:solidFill>
                <a:latin typeface="Arial"/>
              </a:rPr>
              <a:t>Монгольські держави у </a:t>
            </a: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ХІІІ - </a:t>
            </a:r>
            <a:r>
              <a:rPr b="1" lang="uk-UA" sz="2800" spc="-1" strike="noStrike">
                <a:solidFill>
                  <a:srgbClr val="f7d47d"/>
                </a:solidFill>
                <a:latin typeface="Arial"/>
              </a:rPr>
              <a:t>ХІ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V</a:t>
            </a:r>
            <a:r>
              <a:rPr b="1" lang="uk-UA" sz="2800" spc="-1" strike="noStrike">
                <a:solidFill>
                  <a:srgbClr val="f7d47d"/>
                </a:solidFill>
                <a:latin typeface="Arial"/>
              </a:rPr>
              <a:t> ст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123984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Наслідки монгольських завоюван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125360"/>
            <a:ext cx="3132000" cy="3456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Зміни 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історичном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розвитку народі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Східної Європи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особлив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руських князівств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125360"/>
            <a:ext cx="2952720" cy="3456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Пограбуванн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і знищенн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міст, руйнуванн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давні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іригаційни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систем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1125360"/>
            <a:ext cx="2700360" cy="3456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Створенн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найбільшої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імперії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в історії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людства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Монгольське пануванн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на декілька століть визначил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долю поневолених краї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76360" y="83664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83664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12000" y="83664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4581360"/>
            <a:ext cx="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88000" y="4581360"/>
            <a:ext cx="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885080" y="4581360"/>
            <a:ext cx="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4724280"/>
            <a:ext cx="64818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4724280"/>
            <a:ext cx="0" cy="505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7:30:49Z</dcterms:created>
  <dc:creator>Andriy</dc:creator>
  <dc:description/>
  <dc:language>en-US</dc:language>
  <cp:lastModifiedBy>Andriy</cp:lastModifiedBy>
  <dcterms:modified xsi:type="dcterms:W3CDTF">2008-05-06T18:49:25Z</dcterms:modified>
  <cp:revision>2</cp:revision>
  <dc:subject/>
  <dc:title>Монгольські завоювання</dc:title>
</cp:coreProperties>
</file>