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60C-6A58-4372-9723-66836D8D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C82-E30B-4FCE-A186-63DE83B7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A4C-FA22-41DD-915C-1889D737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A1F-1FC8-44A5-BB95-0BAF1DF7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FB6F-B00C-4DC6-9D96-3BA86C76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2B8-6511-44D4-8C9D-B6B4EC5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26A8-09F9-4B78-8F47-44571087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97B-DDD4-4DD4-8CE9-FA8CABB6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8B57-203E-4418-9308-965D34A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1A7D-DFE1-4698-9FE4-650DA2D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5E66-7F52-43E5-9BB6-10740BE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412-EDBC-41F6-81F4-CE42F97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7C38-4623-4ADD-A503-6DEDD88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DBE7-4B99-41D6-BC73-44170AE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425-0C7C-43E5-8D23-E46916F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F736-43F5-490A-B14D-13B7A98A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EE29-00D4-4C8D-8620-D584F745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078-34A2-496D-A0D7-7E78FDC8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ABA-7606-4E4A-9190-3D07542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103-6D77-415E-9D5A-D695E3AA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E14-4938-471A-BBBD-A513B807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43F-02B7-4693-8FA0-9963AC2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CB6-A58A-480B-840D-DCADA8E4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C5D-CA9B-4660-BFF9-6F7CAF3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C2D4-8189-4E1E-ADB5-A1D91FB5FE6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822-BFE9-4AF0-A7C3-D8B53DDE4BE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Основні риси розвитку міжнародних відносин в умовах середньовічч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5229000"/>
            <a:ext cx="564048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d47d"/>
                </a:solidFill>
                <a:latin typeface="Arial"/>
              </a:rPr>
              <a:t>Феодалізм як основа середньовічного ладу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Феодалізм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– суспільний лад, що базувався на пануванні натурального господарства, власності феодала на основний засіб виробництва – землю, наявності трьох форм феодальної ренти, феодальній ієрархії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Схематичне зображення феод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ередньовічч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Новий час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49360"/>
            <a:ext cx="3132000" cy="358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Культурно-ідеологіч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549360"/>
            <a:ext cx="3166920" cy="358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оціально-економіч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549360"/>
            <a:ext cx="2556000" cy="3585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олітич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052640"/>
            <a:ext cx="3419640" cy="151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анування релігій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вітогляду, що базувавс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на есхатологічних уявлення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052640"/>
            <a:ext cx="1800360" cy="151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ануванн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натураль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господар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1052640"/>
            <a:ext cx="3780000" cy="151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Монархічно-аристократичні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форми правлінн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(ранньофеодальна монархія </a:t>
            </a:r>
            <a:r>
              <a:rPr b="1" lang="en-US" sz="1600" spc="-1" strike="noStrike">
                <a:solidFill>
                  <a:srgbClr val="2f1311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станово-представницька </a:t>
            </a:r>
            <a:r>
              <a:rPr b="1" lang="en-US" sz="1600" spc="-1" strike="noStrike">
                <a:solidFill>
                  <a:srgbClr val="2f1311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абсолютизм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f1311"/>
                </a:solidFill>
                <a:latin typeface="Arial"/>
              </a:rPr>
              <a:t>Феодальна роздроблені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013360"/>
            <a:ext cx="277164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ереважанн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гуманістичного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аціональн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(оптимістичного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світогляд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5013360"/>
            <a:ext cx="302436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Товарно-грошові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капіталістичні відносин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5013360"/>
            <a:ext cx="2987640" cy="1368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Буржуазно-демократичні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форми правлінн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781360"/>
            <a:ext cx="9144000" cy="201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2f1311"/>
                </a:solidFill>
                <a:uFillTx/>
                <a:latin typeface="Arial"/>
              </a:rPr>
              <a:t>Основні фактори, що вплинули на еволюцію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Хрестові поход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озвиток середньовічних міст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енесанс і гуманізм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Великі географічні відкритт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Реформаці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f1311"/>
                </a:solidFill>
                <a:latin typeface="Arial"/>
              </a:rPr>
              <a:t>Просвітниц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76000" y="404640"/>
            <a:ext cx="302436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40464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404640"/>
            <a:ext cx="33112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90792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90792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90792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565360"/>
            <a:ext cx="27370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284360" y="2565360"/>
            <a:ext cx="3600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2565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02920" y="4797360"/>
            <a:ext cx="302436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4797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7640" y="4797360"/>
            <a:ext cx="33130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7d47d"/>
                </a:solidFill>
                <a:latin typeface="Arial"/>
              </a:rPr>
              <a:t>Особливості міжнародних відносин в умовах середньовіччя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7885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Відсутність централізованих національних держав, як основних суб'єктів міжнародних відноси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Суб'єктами міжнародних відносин виступали окремі феодали, міста, церк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Шлюбна дипломатія як важлива складова тогочасних міжнародних відноси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начний вплив релігійного чинника на розвиток міжнародних відноси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4:27:51Z</dcterms:created>
  <dc:creator>User</dc:creator>
  <dc:description/>
  <dc:language>en-US</dc:language>
  <cp:lastModifiedBy>Customer</cp:lastModifiedBy>
  <dcterms:modified xsi:type="dcterms:W3CDTF">2011-10-23T08:32:14Z</dcterms:modified>
  <cp:revision>11</cp:revision>
  <dc:subject/>
  <dc:title>Основні тенденції розвитку міжнародних відносин в умовах середньовіччя</dc:title>
</cp:coreProperties>
</file>